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1B4C-379D-48F3-912D-CFAA6AC0B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31E0-E81C-4A2E-8320-AB971B78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E8E4-C727-43B7-855B-A1AE137AE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0B0B-123D-47B3-988F-46D393D06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A7D2-B18F-4D3A-B41C-9EC8388B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F1AB-D1FE-4DF3-98E3-93C33469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F828-A799-47F9-A70E-B7AD3772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8056-8BF1-4CEF-A4F6-2AC9A420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B273-083A-40F2-961A-A7BECD10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0673-ED3B-4555-8640-F8A804BB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3A19-B50D-4F67-83E8-AE595A42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FD3F-9B2D-4846-AD3C-88EE0D4F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D264-738E-4DBD-ACC1-90C3ED5A8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5ab5ee"/>
                </a:solidFill>
                <a:latin typeface="Curlz MT"/>
              </a:rPr>
              <a:t>Kit Kat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28800" y="6019920"/>
            <a:ext cx="4648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urlz MT"/>
              </a:rPr>
              <a:t>By Kate Harr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urlz MT"/>
              </a:rPr>
              <a:t>They come in many flav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alkboard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 Bold"/>
              </a:rPr>
              <a:t>Milk Choco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alkboard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 Bold"/>
              </a:rPr>
              <a:t>Dark Choco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alkboard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 Bold"/>
              </a:rPr>
              <a:t>O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alkboard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 Bold"/>
              </a:rPr>
              <a:t>White Choco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alkboard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 Bold"/>
              </a:rPr>
              <a:t>M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alkboard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 Bold"/>
              </a:rPr>
              <a:t>And extra crea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419720" y="1523880"/>
            <a:ext cx="4419360" cy="487692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circl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urlz MT"/>
              </a:rPr>
              <a:t>They Tast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3962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isp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ocola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circl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b2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urlz MT"/>
              </a:rPr>
              <a:t>Where do you get th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cery s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where that sells can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s 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2610000"/>
            <a:ext cx="3809880" cy="285588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ircl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f0ff"/>
            </a:gs>
            <a:gs pos="100000">
              <a:srgbClr val="29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urlz MT"/>
              </a:rPr>
              <a:t>Go Buy Lots of Kit Kats Now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018040" y="1981080"/>
            <a:ext cx="3068640" cy="1981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81040" y="4114800"/>
            <a:ext cx="2219400" cy="1981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232240" y="411480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185840" y="1981080"/>
            <a:ext cx="2809800" cy="198144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ircl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19:41:23Z</dcterms:created>
  <dc:creator>Educational Technology</dc:creator>
  <dc:description/>
  <dc:language>en-US</dc:language>
  <cp:lastModifiedBy>Educational Technology</cp:lastModifiedBy>
  <dcterms:modified xsi:type="dcterms:W3CDTF">2007-11-19T19:38:47Z</dcterms:modified>
  <cp:revision>5</cp:revision>
  <dc:subject/>
  <dc:title>Kit Kats</dc:title>
</cp:coreProperties>
</file>